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27A0-C512-4EB6-BA84-D65243DD3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09E7-FFB2-4F44-9598-DCB933D6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292A-EE9E-4E89-8518-866112021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913D-D416-49E5-AEA6-9F4C69DE4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8827-2995-4C5D-814A-DCD77C78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DAFC-1357-4482-A343-D64BF9F0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B408-23E9-4EA5-BD00-5DC72264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B567-5B2F-43AA-BCC7-88FB17724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063E-E23A-441C-9FAC-4D289AED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453-F433-4D00-AE46-9E1730C2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FF1C-0741-4689-82C5-2B4200909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5A3E-65B6-4C3A-943C-53314A7C0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02929-861C-4D43-BC26-372BE50C3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685" r="1635" b="1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2338" r="1584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467840" cy="4133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62240" y="1798560"/>
            <a:ext cx="31716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farmaceú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36760" y="762120"/>
            <a:ext cx="5573880" cy="319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57520" y="3786120"/>
            <a:ext cx="1544400" cy="89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1600" y="4751280"/>
            <a:ext cx="900000" cy="1222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5522760"/>
            <a:ext cx="19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spección y Expl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7160" y="4622760"/>
            <a:ext cx="115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eparación y Constr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774800">
            <a:off x="3735360" y="42429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774800">
            <a:off x="2787480" y="507312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24480" y="3529080"/>
            <a:ext cx="7077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6680" y="2949480"/>
            <a:ext cx="70812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2370240"/>
            <a:ext cx="70812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73400" y="1147680"/>
            <a:ext cx="14796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774800">
            <a:off x="4975200" y="3592080"/>
            <a:ext cx="514440" cy="255600"/>
          </a:xfrm>
          <a:prstGeom prst="rightArrow">
            <a:avLst>
              <a:gd name="adj1" fmla="val 50000"/>
              <a:gd name="adj2" fmla="val 50317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774800">
            <a:off x="6389640" y="29523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774800">
            <a:off x="7548480" y="23061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min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...se trata de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istintos modo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nsformar,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bajar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con un recurso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y de obtener un producto de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mayor val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129492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l recurso mineral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sí mismo no tiene valor,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 actividad minera se lo 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533412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58128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9907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PERÚ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Tiempos Promed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8288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xplor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9051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5 a 7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28600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Pre oper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2096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Oro: 9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bre: 14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olimetálico: 16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505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5053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14 a 23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3434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Inversión Promedio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00600"/>
            <a:ext cx="586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nt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2578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US$ 35 y 2,000 mill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91120" y="5016600"/>
            <a:ext cx="2793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3,2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111480"/>
            <a:ext cx="2349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504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7600" y="1333440"/>
            <a:ext cx="222228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3174840"/>
            <a:ext cx="2095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0" y="5079960"/>
            <a:ext cx="2222280" cy="571680"/>
          </a:xfrm>
          <a:prstGeom prst="rect">
            <a:avLst/>
          </a:prstGeom>
          <a:solidFill>
            <a:srgbClr val="dc5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143680"/>
            <a:ext cx="234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73600" y="323856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73600" y="5207040"/>
            <a:ext cx="457200" cy="4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94640" y="990720"/>
            <a:ext cx="1968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OB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048200" y="4989600"/>
            <a:ext cx="2689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,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8200" y="3022560"/>
            <a:ext cx="2425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20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0440" y="1187280"/>
            <a:ext cx="2293920" cy="445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7040" y="3087720"/>
            <a:ext cx="2160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0440" y="5052960"/>
            <a:ext cx="2293920" cy="59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18120"/>
            <a:ext cx="24256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20960" y="3152880"/>
            <a:ext cx="471600" cy="423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720960" y="5184720"/>
            <a:ext cx="47160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30920" y="990720"/>
            <a:ext cx="2032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Verdana"/>
              </a:rPr>
              <a:t>ZIN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094280" y="5021280"/>
            <a:ext cx="3047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3,5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5440" y="3076560"/>
            <a:ext cx="26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666,667 Ki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6760" y="1262160"/>
            <a:ext cx="2268360" cy="440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1920" y="3141720"/>
            <a:ext cx="2138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36760" y="5086440"/>
            <a:ext cx="2268360" cy="584280"/>
          </a:xfrm>
          <a:prstGeom prst="rect">
            <a:avLst/>
          </a:prstGeom>
          <a:solidFill>
            <a:srgbClr val="e2a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151600"/>
            <a:ext cx="23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70280" y="3206880"/>
            <a:ext cx="466920" cy="417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70280" y="5216400"/>
            <a:ext cx="466920" cy="417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48560" y="1066680"/>
            <a:ext cx="2009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2ac4e"/>
                </a:solidFill>
                <a:latin typeface="Verdana"/>
              </a:rPr>
              <a:t>O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495680"/>
            <a:ext cx="6705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No existe divergencia </a:t>
            </a:r>
            <a:br>
              <a:rPr sz="2800"/>
            </a:b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ntre las exportaciones mineras y el desarrollo de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disponibilidad de recursos naturales puede ser un elemento clave para el crecimiento en tanto se complemen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752480"/>
            <a:ext cx="51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bienes prim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manufac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4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4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c6db4"/>
                </a:solidFill>
                <a:latin typeface="Verdana"/>
              </a:rPr>
              <a:t>Percibidas erradamente como excl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evolución positiva del sector minero se ha visto reflejada en la demanda de insumos a la industria nacion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stas industria han ampliado sus actividades y estan incursionando en otros paí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76520" y="12193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para procesamiento en gener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2193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electrónic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38440" y="1457280"/>
            <a:ext cx="390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Suministros, partes y piezas y estructura de a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incipales consumidores de explosivos, llantas, piezas de jefe y suministros de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91440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Los industriales y los mineros podemos complementarnos y dimensionar nuestras posibilidades de generar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009800"/>
            <a:ext cx="396252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Acciones coordinadas y conju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Estableciendo mecanismos de información entre ambas activ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Facilitando la ejecución de planes de inversión e innovación tecnológ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6002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sector minero demandaría bienes y servicios de la industria de acuerdo a sus exigencias de calidad, cantidad, oportunidad y precio adecu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219320"/>
            <a:ext cx="64771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más que políticas para lograr un crecimiento 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crecer hacia nuevas formas de hacer, de relacionarse y por tanto de produc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ólo tiene que ver con apertura comercial y acceso a los mer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a forma en que una economía logra integrarse en sí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24382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de exportar recursos natur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ezar a exportar bienes elaborados en base a dichos recursos natu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o la única man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lograr 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9440" y="-9401040"/>
            <a:ext cx="8926560" cy="25660080"/>
            <a:chOff x="109440" y="-9401040"/>
            <a:chExt cx="8926560" cy="25660080"/>
          </a:xfrm>
        </p:grpSpPr>
        <p:sp>
          <p:nvSpPr>
            <p:cNvPr id="49" name=""/>
            <p:cNvSpPr/>
            <p:nvPr/>
          </p:nvSpPr>
          <p:spPr>
            <a:xfrm>
              <a:off x="109440" y="-9401040"/>
              <a:ext cx="8137440" cy="256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09440" y="-9401040"/>
              <a:ext cx="8926560" cy="24824880"/>
              <a:chOff x="109440" y="-9401040"/>
              <a:chExt cx="8926560" cy="24824880"/>
            </a:xfrm>
          </p:grpSpPr>
          <p:sp>
            <p:nvSpPr>
              <p:cNvPr id="51" name=""/>
              <p:cNvSpPr/>
              <p:nvPr/>
            </p:nvSpPr>
            <p:spPr>
              <a:xfrm>
                <a:off x="109440" y="-9401040"/>
                <a:ext cx="8137440" cy="248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9440" y="-9401040"/>
                <a:ext cx="8926560" cy="22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-563400" y="-23650560"/>
            <a:ext cx="8137440" cy="25660440"/>
            <a:chOff x="-563400" y="-23650560"/>
            <a:chExt cx="8137440" cy="25660440"/>
          </a:xfrm>
        </p:grpSpPr>
        <p:sp>
          <p:nvSpPr>
            <p:cNvPr id="54" name=""/>
            <p:cNvSpPr/>
            <p:nvPr/>
          </p:nvSpPr>
          <p:spPr>
            <a:xfrm>
              <a:off x="-563400" y="-2365056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-563400" y="-23650560"/>
              <a:ext cx="8137440" cy="24825240"/>
              <a:chOff x="-563400" y="-23650560"/>
              <a:chExt cx="8137440" cy="24825240"/>
            </a:xfrm>
          </p:grpSpPr>
          <p:sp>
            <p:nvSpPr>
              <p:cNvPr id="56" name=""/>
              <p:cNvSpPr/>
              <p:nvPr/>
            </p:nvSpPr>
            <p:spPr>
              <a:xfrm>
                <a:off x="-563400" y="-2365056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563400" y="-2365056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03280" y="-23550480"/>
            <a:ext cx="8137440" cy="25660440"/>
            <a:chOff x="503280" y="-23550480"/>
            <a:chExt cx="8137440" cy="25660440"/>
          </a:xfrm>
        </p:grpSpPr>
        <p:sp>
          <p:nvSpPr>
            <p:cNvPr id="59" name=""/>
            <p:cNvSpPr/>
            <p:nvPr/>
          </p:nvSpPr>
          <p:spPr>
            <a:xfrm>
              <a:off x="503280" y="-2355048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03280" y="-23550480"/>
              <a:ext cx="8137440" cy="24825240"/>
              <a:chOff x="503280" y="-23550480"/>
              <a:chExt cx="8137440" cy="24825240"/>
            </a:xfrm>
          </p:grpSpPr>
          <p:sp>
            <p:nvSpPr>
              <p:cNvPr id="61" name=""/>
              <p:cNvSpPr/>
              <p:nvPr/>
            </p:nvSpPr>
            <p:spPr>
              <a:xfrm>
                <a:off x="503280" y="-2355048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3280" y="-2355048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503280" y="27757440"/>
            <a:ext cx="5715000" cy="2651040"/>
            <a:chOff x="503280" y="27757440"/>
            <a:chExt cx="5715000" cy="2651040"/>
          </a:xfrm>
        </p:grpSpPr>
        <p:sp>
          <p:nvSpPr>
            <p:cNvPr id="64" name=""/>
            <p:cNvSpPr/>
            <p:nvPr/>
          </p:nvSpPr>
          <p:spPr>
            <a:xfrm>
              <a:off x="503280" y="27757440"/>
              <a:ext cx="5715000" cy="20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280" y="27757440"/>
              <a:ext cx="365760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47920" y="1066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opuesta económica de fin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e los ses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3716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tiene que ver aprovechar tanto los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angibles como los intang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75248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e ha invertido en capital human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66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70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73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76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47920" y="205740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Contamos con recurso humano, con conocimiento, capacidades y experienc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81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84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87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143000" y="1600200"/>
            <a:ext cx="373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ubiera sido más provechoso para el país, exportar talentos que exportar personas con talen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2438280"/>
            <a:ext cx="63248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ograr hacer de las ventajas que se tienen se conviertan en un elemento de competencia positiva respecto de los otros paí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1752480"/>
            <a:ext cx="63248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ementos para defin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ventaja comparati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ital humano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lidad d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914400"/>
            <a:ext cx="5639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 y capital huma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371600"/>
            <a:ext cx="693432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ituciones de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an sólidas, técnicas y transpa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mplan a cabalidad su rol normativo, regulador y fiscaliz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stén presentes en los rincones del país donde sean neces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2666880"/>
            <a:ext cx="64767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er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resultados no fueron l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14600"/>
            <a:ext cx="6934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haya ruido pol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reponga el principio de aut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gobierno de señales claras que democracia es respetar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905120"/>
            <a:ext cx="5638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base al esfuerzo y empeño de nuestra gente contamos con parte de las variables requerida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o necesitamos instituciones que funcionen, se respeten y hagan respe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l estado cumpla con un rol subsidi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3716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"La dicotomía entre una base de recursos naturales y la 'economía del conocimiento' es falsa. Los recursos naturales tienen el mismo gran potencial para generar progreso tecnológico y crecimiento que muchas industrias manufactureras. Al igual que otras industrias, su éxito depende de la aplicación de conocimientos, capital humano, instituciones sólidas y el compromiso de aprovechar las reservas globales de conocimientos prácticos y progreso tecnológic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os elementos claves </a:t>
            </a:r>
            <a:br>
              <a:rPr sz="2800"/>
            </a:b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no consider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286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Acceso a la tecnologí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istencia de mercado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1295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oy el Perú es un exportador más só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5029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frece productos primarios y muchos no tr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12952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Ambos tipos de exporta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on importantes y añaden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472608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48002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s operaciones minera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no </a:t>
            </a: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sólo se tratan de la extracción </a:t>
            </a:r>
            <a:br>
              <a:rPr sz="2800"/>
            </a:b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y venta de minerales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71816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619760" cy="375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2239920"/>
            <a:ext cx="2606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2952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tex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8:07Z</dcterms:created>
  <dc:creator>----- -----</dc:creator>
  <dc:description/>
  <dc:language>en-US</dc:language>
  <cp:lastModifiedBy>PCLARCE</cp:lastModifiedBy>
  <cp:lastPrinted>2004-10-27T01:23:05Z</cp:lastPrinted>
  <dcterms:modified xsi:type="dcterms:W3CDTF">2004-10-27T23:44:43Z</dcterms:modified>
  <cp:revision>56</cp:revision>
  <dc:subject/>
  <dc:title>PowerPoint Presentation</dc:title>
</cp:coreProperties>
</file>